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1C2-2081-4918-B5BB-3CB8E765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B14-A67E-467C-B68D-1CF5A730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E7A-4CD6-4EF4-9BEB-0984EF9D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5F36-801D-468D-B62B-DED37BC9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87E2-4819-4436-805D-90E777E7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D2E5-33EF-4BE8-8F83-D7247ADC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54E5-CA66-4A0B-BABA-D349C71B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6729-9FA4-4591-B3B8-75F65F03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5DEA-7DF3-4A89-ADCF-9B728307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8844-4982-4A32-A699-A873EE98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DCAD-E608-47EC-832E-313E1A6F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6DD-14A4-4210-9F28-5C5D7AB8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9545-E3FF-475E-AB40-C6758AF6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3077-260E-45DE-B1F1-B93B3A79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BEA0-C61A-4B82-831C-DB10C6F4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AE59-9849-4DFA-B1BD-4307C655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6153-3EF2-4A09-B3B4-72C9734C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C1A6E-618C-4F38-AFD0-8A604F5B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EC707-A66D-44B0-8B3E-7B0D9929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B0007-7981-4AAF-B0C0-304A2E5B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9C91D-3E8E-4D99-A500-65ADAAF9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EA0D1-1633-4B97-893E-E0BED0D8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30EA-107B-46F4-8741-042391DD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0AE00-7C3A-4DB5-8BBD-CB221DAC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7DBD4-DB4A-443E-A4B8-2D7C0FA3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034E9-0E9C-49B8-919F-57D5C4F4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656F8-0E13-4B11-9138-B3B5D65C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C9302-BB6A-44F8-9324-087173CF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1F9BB-251F-4E76-AD31-BB6FF176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46F51-E90B-48A2-A9B2-5D12C7E7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B46A4-1F3C-4D1D-804A-6AD769C1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4FF9F-6C02-41E4-9D03-ADF0B95F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35B88-5F23-461C-B935-F4AD899C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EF9-FA56-45AE-8625-3D04D90A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FC72D-7948-442B-9D43-C1773359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89ED3-8913-4215-A2A7-7E58B96C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1BCB7-FABC-48D1-B643-5D536A88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049CC-9B71-4F3C-8FDC-EF133418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4BEFB-6C8E-4D9C-AF94-A82C5E2E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A75DC-55C8-45E1-8C2B-21B666DC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66B02-0ADC-48D5-B16D-0C3D93A4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FEF1D-26A7-481B-A84B-FC8999A1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41ED7-281B-46F9-A376-3D4E13F3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4B797-FFE0-4821-AD6A-DF56E61D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554-2A7C-4618-97CD-B70981C8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0FAD4-41AF-4BC4-BD0F-1703B630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83A74-E4EA-4049-8984-43811AE4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BB8CA-18EE-4A38-B3DE-7C9600A5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E55F4-29E8-436A-9C1E-5AA9E951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45058-8E38-4BD5-AF49-7438BBF4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E0DA8-7395-43BD-8B47-78AFEA22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E9237-8993-44B7-8A56-7740BB5A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17A9E-BE66-405F-87B7-3EA20240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1BF4E-AE0A-4945-8A33-0EE7CE5C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F2BBB-FD8E-4E6F-8E3C-1260902B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9BB-FD54-427E-80BB-43D30637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58087-9208-4A33-B252-2B2D3D91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C81A9-5A96-492F-B373-43F13947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CCA73-38DE-4218-AC67-7C192FEB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05E27-7BDD-423E-BB2B-514294A0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2DC09-D367-439A-AE15-C6156238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9435E-C4E8-4B65-A276-07D568B5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DB3B7-CB97-45C6-827E-CC9BA424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A43CA-6215-41C9-8C66-E02655DE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278B1-98E5-49A3-BB39-39BED569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87101-B5CF-43BA-A2EA-615DA585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F08-9C2D-442C-BFF6-8EF11914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9DCA0-45C7-4E50-96CD-842830B8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69C65-80FF-4F0E-9CED-24543D9C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B62C5-F0BA-4838-933B-414FA4E8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FF3EE-740C-4FBD-8742-D1FB24FF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F55E7-91DD-4FB4-8A3E-76FD605A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8A359-3DA6-4FD6-BA59-FC381002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3531E-5E1C-42D3-9B11-89247CD8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A87D0-A658-41B7-AF7D-EF485333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C4B28-66BB-4352-AEDA-9C1F6421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BA41A-5ECB-48B4-8709-F845766F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5DC5-2A2A-48F7-AA83-72221986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3B0B1-FC8C-4164-9A94-E136CB8A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3C2C0-B20A-4F77-A3AF-6E81F089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579C3-8781-43DA-B5F0-EEBCE0C3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AEB19-EE37-4014-AAAF-7F7AD8A3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AE805-AF24-4397-9BDD-13A34008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381-7F33-478E-A30E-E99518C6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1751-4543-4A37-8A7D-4E36D320BD5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50E1-8141-4CE5-921D-14B4624C6F3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8166-E763-49E6-BC76-FD116AFF2CE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11AB-8A00-4CF0-8BF8-CF4F8D1A6CE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3DEA-E09A-4CAE-8032-A3B1C114DB7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0503-1945-43D9-A35D-8DACFC83656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6F62-1048-4492-A952-D4151039CAD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22860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72314"/>
                </a:solidFill>
                <a:latin typeface="Gill Sans MT"/>
              </a:rPr>
              <a:t>MCPS K-12 School Counseling Program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we are working on now…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9047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ll 201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leted final program document draf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sented to all counselors Oct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sent to T&amp;L Committee Nov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ere we are heading…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ll 201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diness Survey completed by all district and Hellgate Elementary school counsel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nter 201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liminary protocol for new students –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roll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sessment of student abil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ere we are heading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ring 201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sent plan to school counselors and principals for transitioning stud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sent  to T&amp;L committe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ition Pl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-12 School Counseling Comprehensive Program Documen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tablish District Advisory Counc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– first mee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et annual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ig Pictur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chool Year 2012-201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-going training of all feeder school and district school counselors throughout the ye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ring 201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 of comprehensive school counseling program to all staff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lementation of school counseling guidance curriculum in all schoo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gend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lcome and Introduc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imeline of K-12 Comprehensive Program Develop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have we don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we are doing now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re we are headed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adiness Surve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8960" y="1142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Gill Sans MT"/>
              </a:rPr>
              <a:t>The WHY – </a:t>
            </a:r>
            <a:r>
              <a:rPr b="0" lang="en-US" sz="4900" spc="-1" strike="noStrike">
                <a:solidFill>
                  <a:srgbClr val="572314"/>
                </a:solidFill>
                <a:latin typeface="Gill Sans MT"/>
              </a:rPr>
              <a:t>our guiding question…..</a:t>
            </a:r>
            <a:endParaRPr b="0" lang="en-US" sz="4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142640" y="3352680"/>
            <a:ext cx="7497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re students different by what we do?”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unselor Leadership Tea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aron Shattuck – Sentinel High Schoo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ngela Opitz – Rattlesnake Elementary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Bonnie Fergerson – Willard Alternative High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chool Program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atie Cook – Hellgate Elementary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hristine Kolczak – Hellgate High Schoo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Erica Zins – Russell/Lewis &amp; Clark Elementary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Katie Boynton – Hellgate High Schoo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arolane Stevenson – Big Sky High Schoo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ichelle Stearns – Porter Middle Schoo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ike Perry – Hawthorne Elementary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5280" y="19810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Gill Sans MT"/>
              </a:rPr>
              <a:t>What is a Comprehensive School Counseling Program?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434960" y="152280"/>
            <a:ext cx="7499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CPS School Counseling Progra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school counseling program is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omprehensive in scope, preventive in design, and developmental in natur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.  The MCPS School Counseling Program reflects a comprehensive approach that begins with a foundation, upon which delivery, management, and accountability systems are integrated.  It is designed to enable all students to receive program benefit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omprehensive in Scop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comprehensive school counseling program focuses on what all students, from kindergarten through 12th grade, should know, understand, and be able to do in three domains of student development: academic, career, and personal/social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reventive in Desig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purpose of the school counseling program is to impart specific skills and learning opportunities in a proactive, preventive manner, ensuring all students can achieve school success through academic, career, and personal/social development experience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velopmental in Natu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CPS’ School Counseling Program is designed to meet the needs of students throughout various developmental stag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we have done…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371240" y="1218960"/>
            <a:ext cx="7497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inter 2010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school counselors assess their duti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chool Counseling Leadership Team built background knowledge of American School Counseling Association’s,  ASCA, national mod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pring 2011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ilt Found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veloped Mission, Beliefs, Philosophy, and Standard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rought all school counselors in the district together to share and build sup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we have done…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599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mmer 201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ed Hellgate Elementary Counselor to Leadership Te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eloped Learning Targets for grades K-12 in all 9 Standa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ki Boot cam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eloped outline for final docu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eloped timeline for next step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20:10:03Z</dcterms:created>
  <dc:creator>eazins</dc:creator>
  <dc:description/>
  <dc:language>en-US</dc:language>
  <cp:lastModifiedBy>eazins</cp:lastModifiedBy>
  <dcterms:modified xsi:type="dcterms:W3CDTF">2011-10-25T17:37:01Z</dcterms:modified>
  <cp:revision>24</cp:revision>
  <dc:subject/>
  <dc:title>K-12 School Counseling Program Time-Line</dc:title>
</cp:coreProperties>
</file>